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DB4-5A6F-49FC-84CF-05C8A83B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253-2EDE-4D8C-BB20-895A057A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C35-5B2F-4630-92E5-FDCFBC66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FCA-67A4-480D-A614-52F85B09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98F2-2D85-43DB-ABFC-8D256B72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FBDB-EC03-4B30-8813-7BBA8F7F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8D57-CC80-4070-9AAC-F26CD7BD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B312-4006-4C36-B48E-615FB4AD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C8AC-B967-4989-B8B4-2A681D58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C900-CE96-492F-AC76-F124B787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5E95-7D7F-47A7-833C-18DD3AA5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050-4CA8-4C17-B012-E90A471C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F93A-4DE3-40D8-9BA9-F3A34140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2AEF-99AA-48D6-A369-BEFD5E2F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09C0-2068-4AF5-A574-80118D3F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8906-A484-4207-9F93-57954CD0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BF3E-48AD-47CD-A824-8E4FDFF4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5F2-E079-48DF-8D61-06A86357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261-361A-454E-A2C4-3CD22766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2DA-9BFD-47C6-B393-6CD86804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DEC-92D2-497E-95A6-2E65FB3A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5AC-7C49-4358-8C76-A5E6204F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684-8A88-4651-B468-92507131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EA4-7B0F-4AFA-9E26-0D39A058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97F3-BF7D-484B-9A39-AB63EE2544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48EB-7033-49A6-8CB5-4CAAD36BC7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Joshua 13-19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Division of the Land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Quarter 3, Lesson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es 36-4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2280" y="137160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314640"/>
            <a:ext cx="4800600" cy="62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he Remaining Tri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8:1 to 19:5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Benjamin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8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imeon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Zebulun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Issachar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17-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sher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24-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Naphtali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32-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an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40-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280" y="137160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1960560"/>
            <a:ext cx="4800600" cy="29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he Remaining Tri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8:1 to 19:5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Joshua’s Inheritance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49-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What tribe was Joshua f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334120"/>
            <a:ext cx="38862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ahoma"/>
              </a:rPr>
              <a:t>The dividing of the land was complet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371600" y="533520"/>
            <a:ext cx="6448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rthern Most City of 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971800" y="228600"/>
            <a:ext cx="1200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hilo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19320" y="5257800"/>
            <a:ext cx="4486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in Campgrou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Tabernacl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457200"/>
            <a:ext cx="2210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n the whole congregation of the sons of Israel assembled themselves at Shiloh, and set up the tent of meeting there; and the land was subdued before them. (Joshua 18: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04920" y="380880"/>
          <a:ext cx="8610480" cy="6172200"/>
        </p:xfrm>
        <a:graphic>
          <a:graphicData uri="http://schemas.openxmlformats.org/drawingml/2006/table">
            <a:tbl>
              <a:tblPr/>
              <a:tblGrid>
                <a:gridCol w="947520"/>
                <a:gridCol w="3014640"/>
                <a:gridCol w="2581560"/>
                <a:gridCol w="2066760"/>
              </a:tblGrid>
              <a:tr h="914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ritannic"/>
                          <a:ea typeface="Times New Roman"/>
                        </a:rPr>
                        <a:t>The Distribution of the L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Desdemona"/>
                          <a:ea typeface="Times New Roman"/>
                        </a:rPr>
                        <a:t>Special Allot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st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: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wo &amp; a half Trib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e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atura MT Script Capitals"/>
                          <a:ea typeface="Times New Roman"/>
                        </a:rPr>
                        <a:t>West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da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cccc"/>
                          </a:solidFill>
                          <a:latin typeface="Desdemona"/>
                          <a:ea typeface="Times New Roman"/>
                        </a:rPr>
                        <a:t>Major Allotments to the 9 ½ Tri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Sons of Josep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maining 7 Trib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ties of Refu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Desdemona"/>
                          <a:ea typeface="Times New Roman"/>
                        </a:rPr>
                        <a:t>Special Provis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oth Sides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: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mmary Stat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267080" y="1295280"/>
            <a:ext cx="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124080"/>
            <a:ext cx="0" cy="167652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5715000" y="228600"/>
            <a:ext cx="2990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as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moth-Gilea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ze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5880" y="3124080"/>
            <a:ext cx="2314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s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odesh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chem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br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223920"/>
            <a:ext cx="8686800" cy="663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900000">
            <a:off x="1371600" y="1599840"/>
            <a:ext cx="1523880" cy="3657600"/>
          </a:xfrm>
          <a:prstGeom prst="ellipse">
            <a:avLst/>
          </a:prstGeom>
          <a:gradFill rotWithShape="0">
            <a:gsLst>
              <a:gs pos="0">
                <a:srgbClr val="175e5e">
                  <a:alpha val="0"/>
                </a:srgbClr>
              </a:gs>
              <a:gs pos="100000">
                <a:srgbClr val="33cccc">
                  <a:alpha val="0"/>
                </a:srgbClr>
              </a:gs>
            </a:gsLst>
            <a:lin ang="126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553080" y="1523880"/>
            <a:ext cx="1524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re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Ou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ud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914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w C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371600" y="761760"/>
            <a:ext cx="9144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5334120" y="1600200"/>
            <a:ext cx="3324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Divi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The La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ccording 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ibal Siz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14600" y="2895480"/>
            <a:ext cx="281952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3880" y="1295280"/>
            <a:ext cx="914400" cy="3733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-66960"/>
            <a:ext cx="449568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Garamond"/>
              </a:rPr>
              <a:t>Division of the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(13:7 to 24:3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Unconquered parts of the land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1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Possession of the land East of Jordan 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7-33 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0066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Total territory East of Jordan 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7-14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0066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Portion divided to Reuben 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15-23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0066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Portion divided to Gad 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24-28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0066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Portion divided to the half tribe of Manasseh 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29-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43400" y="512280"/>
            <a:ext cx="4800600" cy="58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istribution Be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4:1 to 14:15) 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Eleazar the priest, Joshua and the elders distributed the land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4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Land divided by lot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4: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Levites given no territory, only cities to live in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4:3-5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ee Joshua 18: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Hebron given to Caleb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4:6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(Notice the timeline in 14: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52388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295280" y="4114800"/>
            <a:ext cx="289584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2280" y="175248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943560"/>
            <a:ext cx="4800600" cy="436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Judah’s Terri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4:1 to 15:63) 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Portion to Judah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5:1 - 15: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Caleb conquers Hebron.  How?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5:13-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Cities of Judah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5:21-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Judah could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drive out the Jebusites from Jerusalem.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5: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280" y="137160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893880"/>
            <a:ext cx="4800600" cy="50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Joseph’s Terri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6:1 to 17:18) 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Inheritance of Manasseh and Ephraim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6:1 to 17: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Portion to Ephraim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6:5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Ephraim did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drive out the Canaanites from Gezer, but they paid taxes to the Ephraimites.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6:10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280" y="137160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-20880"/>
            <a:ext cx="4800600" cy="69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Joseph’s Terri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6:1 to 17:18) 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Portion to Half of Manasseh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7:1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aughters of Zelophehad receives inheritance along with Manasseh’s sons.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7:1-11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ee Num. 27:1-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ribes of Manasseh could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not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rive out the Canaanites but received taxes from them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7:12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Children of Joseph complain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7:14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2280" y="137160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345240"/>
            <a:ext cx="4800600" cy="619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he Remaining Tri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8:1 to 19:5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Israel assembled at Shiloh and set up the tabernacle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8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even tribes without land.  Why?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8: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wenty-one men, three from each tribe, survey and describe the land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8:3-9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Land divided by lot among the remaining seven tribes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8:10 to 19: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0:49Z</dcterms:created>
  <dc:creator>Terry W. Benton</dc:creator>
  <dc:description/>
  <dc:language>en-US</dc:language>
  <cp:lastModifiedBy>Frank D Vines</cp:lastModifiedBy>
  <dcterms:modified xsi:type="dcterms:W3CDTF">2005-07-07T22:18:37Z</dcterms:modified>
  <cp:revision>24</cp:revision>
  <dc:subject/>
  <dc:title>Joshua 13-19 </dc:title>
</cp:coreProperties>
</file>